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78A5-2B25-4CFF-A93E-57366F8B0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836F-05B1-455C-9CC2-C1DA3FC8D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15B7-F4E5-4F88-AE39-19F32DCDF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A7AF-9EF7-4E77-85FC-572664D06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E2B0-5B6B-449E-A197-BB25C46F6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DF30-B527-41F9-9A39-7C8E19EF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1FDF-9E74-43BD-AF74-AD914B65A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402C-179B-43DD-A0A2-CC82494F5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5C91-F7AA-4F68-A485-1201F931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3890-5876-4335-9832-936679DC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73B2-C6D5-47EE-94D3-4967AEFD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E0DF-02F9-49F0-A44C-9E08FF1B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1B933-1ACC-407A-BEB1-DA32BB6965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9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3894622lnkCImSXrf_ph" descr=""/>
          <p:cNvPicPr/>
          <p:nvPr/>
        </p:nvPicPr>
        <p:blipFill>
          <a:blip r:embed="rId1"/>
          <a:stretch/>
        </p:blipFill>
        <p:spPr>
          <a:xfrm>
            <a:off x="-457200" y="0"/>
            <a:ext cx="57913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181480" y="0"/>
            <a:ext cx="3962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يا سيّدي خطئتُ إليك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Times New Roman (Arabic)"/>
              </a:rPr>
              <a:t>من غُربتي أعدْتَني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 (Arabic)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Times New Roman (Arabic)"/>
              </a:rPr>
              <a:t>إليك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2057400"/>
            <a:ext cx="4343400" cy="66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حبُّك ناداني أفاقَ غَفْوَ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حنانُكَ ناداني أذاب </a:t>
            </a:r>
            <a:r>
              <a:rPr b="1" lang="ar-SA" sz="3600" spc="-1" strike="noStrike">
                <a:solidFill>
                  <a:srgbClr val="000000"/>
                </a:solidFill>
                <a:latin typeface="Arabic Transparent"/>
                <a:cs typeface="Arabic Transparent"/>
              </a:rPr>
              <a:t>قسو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مامَكَ أسجدُ لمجدِك أخشَع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ِن غُرْبَتي دَعَوتني إلي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 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imes New Roman (Arabic)"/>
              </a:rPr>
              <a:t>يا سيّدي لبَّيْكَ لبَّيْكْ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27111219eXbTqlfTtd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457200" y="0"/>
            <a:ext cx="8686800" cy="88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  <a:cs typeface="Arabic Transparent"/>
              </a:rPr>
              <a:t>يا سيّدي خطئتُ إليك 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cs typeface="Times New Roman (Arabic)"/>
              </a:rPr>
              <a:t>من غُربتي أعدْتَني  إليك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cs typeface="Arabic Transparent"/>
              </a:rPr>
              <a:t>عفوَكَ إلهي لِما فعلتُهُ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بدمعةٍ وآهِ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  <a:ea typeface="Arabic Transparent"/>
              </a:rPr>
              <a:t> أنا سألْتُهُ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 (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2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cs typeface="Arabic Transparent"/>
              </a:rPr>
              <a:t>لِعدلِكَ أسجدُ لحُكْمِكَ أخشعُ (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  <a:ea typeface="Arabic Transparent"/>
              </a:rPr>
              <a:t>2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  <a:ea typeface="Arabic Transparent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cs typeface="Arabic Transparent"/>
              </a:rPr>
              <a:t>مِن غُرْبَتي دَعَوتني إليك  يا سيّدي لبَّيْكَ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لبَّيْك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10054977" descr=""/>
          <p:cNvPicPr/>
          <p:nvPr/>
        </p:nvPicPr>
        <p:blipFill>
          <a:blip r:embed="rId1"/>
          <a:stretch/>
        </p:blipFill>
        <p:spPr>
          <a:xfrm>
            <a:off x="-295200" y="0"/>
            <a:ext cx="48672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343400" y="0"/>
            <a:ext cx="4800600" cy="10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Arial"/>
                <a:cs typeface="Arabic Transparent"/>
              </a:rPr>
              <a:t>يا سيّدي خطئتُ إليك</a:t>
            </a:r>
            <a:r>
              <a:rPr b="1" lang="ar-SA" sz="3800" spc="-1" strike="noStrike">
                <a:solidFill>
                  <a:srgbClr val="000000"/>
                </a:solidFill>
                <a:latin typeface="Arial"/>
                <a:ea typeface="Arabic Transparent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Arial"/>
                <a:cs typeface="Times New Roman (Arabic)"/>
              </a:rPr>
              <a:t>من غُربتي أعدْتَني  إليك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يّها الحبيبُ الغفورُ نِعْمَ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بقُربِكَ تَطيبُ صلاتي نَغْمَتي(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2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 لِحبِّكَ أسجدُ بقربِكَ أخشعُ (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2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ِن غُرْبَتي دَعَوتني إلي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Arial"/>
                <a:cs typeface="Times New Roman (Arabic)"/>
              </a:rPr>
              <a:t>يا سيّدي لبَّيْكَ لبَّيْكْ </a:t>
            </a:r>
            <a:r>
              <a:rPr b="1" lang="ar-SA" sz="3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2T16:07:29Z</dcterms:created>
  <dc:creator>USER</dc:creator>
  <dc:description/>
  <dc:language>en-US</dc:language>
  <cp:lastModifiedBy>USER</cp:lastModifiedBy>
  <dcterms:modified xsi:type="dcterms:W3CDTF">2002-11-12T16:09:48Z</dcterms:modified>
  <cp:revision>1</cp:revision>
  <dc:subject/>
  <dc:title>PowerPoint Presentation</dc:title>
</cp:coreProperties>
</file>